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0CBB-1656-4D5C-BF21-061621D3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8B75-8FBC-44CF-B28D-E9F4813B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CDCD-C90C-4813-953E-2D48B113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7E31-1527-43A6-B43C-FACDE9FA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DA91-B1E8-40CB-BED7-510D48E9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1710-5B7A-4793-B896-3F3678EF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2352-01EF-452B-942E-DA7A9D9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2BFF-D54B-4C32-A862-9D7AB5A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515C-F01C-4783-A14F-1C991C2F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FFB2-858D-4AC3-9E97-A9D3AE1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A836-4542-4B91-95DE-BE98A960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8270-1438-449C-89A5-9C5F1324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8148-24CF-4420-8F7F-59698F6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01B1-66A8-404B-A6CA-FB75744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1A08-0BED-4D2F-8C44-D6242240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8BB8-A639-4181-A0A4-D72DCA90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9E8A-A6A6-4936-A6AE-4C04A6B2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7FDF-9DDD-41AA-B42A-C9A022B0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AA76-EAEB-4BED-BD64-094B94DB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294B-737A-4231-8E21-C4D29D81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1931-A680-45E4-BF05-37BBD21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F5B2-3F5F-4C0D-B2E0-4743EC5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EF21-4AA8-4FC2-B3A8-B86B5AD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974B-9F90-43CF-AD95-47F41A2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3B58-DB9D-4F85-8155-812B8EDE63E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076E-479B-4F14-8469-8FE36AB9743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191520"/>
            <a:ext cx="892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8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, Ти като мил Пастир браниш стадото Сво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дка паша им промисля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хо водиш слабит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и с силната Си миш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гнета заблуде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събираш и ги носи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жно в пазухата С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Приеми тез наши ча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илните Свои ръ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наем, че не ще да бъд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езопасност другад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х, не дай те в младостта 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кошарата дале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е скитат и да бъд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рикаещ лъв грабеж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сред всякакви заблуди, опази ги в пътя Тв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о най-после стигн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вечний съвършен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асища всегда зеле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м с веселие да пас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да пият от реки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воята благода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48:49Z</dcterms:modified>
  <cp:revision>68</cp:revision>
  <dc:subject/>
  <dc:title>Slide 1</dc:title>
</cp:coreProperties>
</file>